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9F0-A64B-4EFC-8B02-F682B56F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3F0-D175-451C-86FD-BFA7D8D8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A99-B3AE-454B-955F-B1D4F81A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51F-F314-4426-88C2-30EABE9F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364-5067-4B68-A9FA-6D391710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7B0-2901-4344-BFF8-CB116CAC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532-DA50-41C6-9BDE-B88B3F61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DD6-4F7D-4B6B-9AB3-E67BDD74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F3F-A554-40E7-B5C3-55EDAE0C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9AF-D8A1-43E8-BBFA-85BC6630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858-581D-42C2-838B-A46945A9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400-4F43-4F69-AAC5-614F4586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5586-CB75-448B-9DF9-0935103B2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haracter, incident, and detail contributes to an overall i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escription p. 313 at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uffered much from a morbid acuteness of the sen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never ventured for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y Mad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oved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e comp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decease, would leave him the last of the ancient race of the Ush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ffling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dual wasting away of the person…cataleptical…unusual diagnos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uccumbed to the prostrating power of the destroy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Usher send for the Narr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3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unted Palace”  Roderick’s fear of ma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he demise of the Us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lace stands for a human head and mind.  A disordered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Stanza imagery suggest presence of ma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ote poem &amp; published 5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Haunted Palace I mean to imply a mind haunted by phantoms—a disordered brai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song...R + H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t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is set in bleak or remote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ot involves macabre or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s are in psychological and/or physical to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pernatural or otherworldly element is often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 of the House of Us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e’s eff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tic writing often accented the fantastic aspects of human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erick U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line U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:  m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ll, dark, and soundless day in the autumn of the ye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res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ak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ant eyelike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yed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sion of glo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SINGLE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rator &amp; Us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each other as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her send him a lett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evidence of a nervous agit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riter spoke of acute bodily illn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ntal disorder which oppressed hi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her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cient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d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em of the Usher race…had put forth…any enduring branch:  in other words, that the entire family lay in the direct line of desc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is defiencey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i overspread the whole ex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rely perceptible fissure, which, extending from the roof of the building in front, made its way down the wall in a zigzag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rator enters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ber tape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ness of fl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one of the staircases, I met the physician of the family.  He accosted me with trepidation and passed 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her arose from a sofa and greets the narrator with vivacious warm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3:30:45Z</dcterms:created>
  <dc:creator>Cobb County School District</dc:creator>
  <dc:description/>
  <dc:language>en-US</dc:language>
  <cp:lastModifiedBy>install</cp:lastModifiedBy>
  <dcterms:modified xsi:type="dcterms:W3CDTF">2009-11-16T13:06:51Z</dcterms:modified>
  <cp:revision>4</cp:revision>
  <dc:subject/>
  <dc:title>Single Effect</dc:title>
</cp:coreProperties>
</file>